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0E79-DAF1-480B-8DC9-813B7FBB2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89D8-6C90-4A96-943B-B4DBEB630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C252-F31B-434B-AB45-C24D10D34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DC70-BEC5-45AF-8A59-3AD354A25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0432-013D-44DB-80E2-C2C9973AA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352D-A550-4296-89AD-9D1CE19C3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9558-B4FC-4EAA-B3F9-55617AA7A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E03F-27D4-48C0-8A26-7E44387AB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F0CC-9C22-4F2A-9C01-1CFFCFB5B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F19C-2442-4D61-B90B-C1724C15D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B50D-CD67-4806-B09B-8C0FB054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4ADC-7378-4406-B1FC-A11964487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B2C46-9D22-4181-8A8F-DF513206FB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70000" contrast="-70000"/>
            <a:alphaModFix amt="50000"/>
          </a:blip>
          <a:stretch/>
        </p:blipFill>
        <p:spPr>
          <a:xfrm>
            <a:off x="380880" y="0"/>
            <a:ext cx="876312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80880" y="6095880"/>
            <a:ext cx="1143000" cy="478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80880" y="914400"/>
            <a:ext cx="8763120" cy="29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715000" y="5105520"/>
            <a:ext cx="3809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06 novembre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549360"/>
            <a:ext cx="7696440" cy="45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Verdana"/>
              </a:rPr>
              <a:t>Il contesto socio economico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Verdana"/>
              </a:rPr>
              <a:t>la realtà del territor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Banche dati Infocamere, elaborazione dati CCIAA Venez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ALBERTO CAPUZZ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DIRET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Venezi@opportunità</a:t>
            </a:r>
            <a:br>
              <a:rPr sz="1600"/>
            </a:br>
            <a:br>
              <a:rPr sz="1600"/>
            </a:b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Azienda Speciale Camera di Commercio Venezi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D678-2BF3-40FF-AAE0-A6C0F330FE9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>
            <a:lum bright="70000" contrast="-70000"/>
            <a:alphaModFix amt="50000"/>
          </a:blip>
          <a:stretch/>
        </p:blipFill>
        <p:spPr>
          <a:xfrm>
            <a:off x="533520" y="0"/>
            <a:ext cx="861048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57200" y="6095880"/>
            <a:ext cx="1143000" cy="478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3520" y="762120"/>
            <a:ext cx="800100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71640" y="-969840"/>
          <a:ext cx="7200720" cy="8797680"/>
        </p:xfrm>
        <a:graphic>
          <a:graphicData uri="http://schemas.openxmlformats.org/drawingml/2006/table">
            <a:tbl>
              <a:tblPr/>
              <a:tblGrid>
                <a:gridCol w="1726920"/>
                <a:gridCol w="863640"/>
                <a:gridCol w="787320"/>
                <a:gridCol w="774720"/>
                <a:gridCol w="863640"/>
                <a:gridCol w="787320"/>
                <a:gridCol w="787320"/>
                <a:gridCol w="609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981000" y="-960480"/>
          <a:ext cx="1717920" cy="517680"/>
        </p:xfrm>
        <a:graphic>
          <a:graphicData uri="http://schemas.openxmlformats.org/drawingml/2006/table">
            <a:tbl>
              <a:tblPr/>
              <a:tblGrid>
                <a:gridCol w="171792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755640" y="907920"/>
            <a:ext cx="770400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>
            <a:lum bright="70000" contrast="-70000"/>
            <a:alphaModFix amt="50000"/>
          </a:blip>
          <a:stretch/>
        </p:blipFill>
        <p:spPr>
          <a:xfrm>
            <a:off x="533520" y="0"/>
            <a:ext cx="861048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57200" y="6095880"/>
            <a:ext cx="1143000" cy="4780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371600" y="1285920"/>
            <a:ext cx="662940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11280" y="620640"/>
          <a:ext cx="7772400" cy="5256360"/>
        </p:xfrm>
        <a:graphic>
          <a:graphicData uri="http://schemas.openxmlformats.org/drawingml/2006/table">
            <a:tbl>
              <a:tblPr/>
              <a:tblGrid>
                <a:gridCol w="5913360"/>
                <a:gridCol w="1859040"/>
              </a:tblGrid>
              <a:tr h="514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84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800000"/>
                          </a:solidFill>
                          <a:latin typeface="Arial Unicode MS"/>
                          <a:ea typeface="Tahoma"/>
                        </a:rPr>
                        <a:t>Imprese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ahoma"/>
                        </a:rPr>
                        <a:t>(II trimestre 201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84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ahoma"/>
                        </a:rPr>
                        <a:t>Valori assoluti e percentuali di composizi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ahoma"/>
                        </a:rPr>
                        <a:t>N. impre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9.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7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ahoma"/>
                        </a:rPr>
                        <a:t>In % sul Ven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6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ahoma"/>
                        </a:rPr>
                        <a:t>In % sull'Ital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,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ahoma"/>
                        </a:rPr>
                        <a:t>N. imprese ogni 100 abitan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ahoma"/>
                        </a:rPr>
                        <a:t>% di imprese artigia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8,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ahoma"/>
                        </a:rPr>
                        <a:t>% di imprese femminili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9,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ahoma"/>
                        </a:rPr>
                        <a:t>% di imprese giovani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,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ahoma"/>
                        </a:rPr>
                        <a:t>% di imprese stranie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,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>
            <a:lum bright="70000" contrast="-70000"/>
            <a:alphaModFix amt="50000"/>
          </a:blip>
          <a:stretch/>
        </p:blipFill>
        <p:spPr>
          <a:xfrm>
            <a:off x="533520" y="0"/>
            <a:ext cx="861048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57200" y="6095880"/>
            <a:ext cx="1143000" cy="4780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84360" y="549360"/>
            <a:ext cx="7848360" cy="56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  <a:ea typeface="Arial Unicode MS"/>
              </a:rPr>
              <a:t>SISTEMA INFORMATIVO EXCELSIOR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  <a:ea typeface="Arial Unicode MS"/>
              </a:rPr>
              <a:t>LE PREVISIONI OCCUPAZIONALI E I FABBISOGNI PROFESSIONALI PER IL 2014: UNO STRUMENTO IMPORTANTE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  <a:ea typeface="Arial Unicode MS"/>
              </a:rPr>
              <a:t>L’indagine Excelsior è considerata una delle piu’ ampie indagini previste   dal   sistema   statistico   nazionale  e  rappresenta  lo strumento  informativo  piu’ completo e approfondito relativo ai fabbisogni professionali e formativi delle impre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  <a:ea typeface="Arial Unicode MS"/>
              </a:rPr>
              <a:t>E’ un’indagine annuale,  la presente edizione chiusa il 19 agosto 2014  ha  riguardato  a  livello nazionale, un campione di 97.000 imprese,  rappresentative  dell’ universo  delle  imprese  private, dell’industria e  dei servizi  con almeno un dipendente in  media nel 201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Maggiori informazioni al link: http://excelsior.unioncamere.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>
            <a:lum bright="70000" contrast="-70000"/>
            <a:alphaModFix amt="50000"/>
          </a:blip>
          <a:stretch/>
        </p:blipFill>
        <p:spPr>
          <a:xfrm>
            <a:off x="250920" y="243000"/>
            <a:ext cx="8610480" cy="6615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57200" y="6095880"/>
            <a:ext cx="1143000" cy="4780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04920" y="38088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rcRect l="0" t="0" r="0" b="2880"/>
          <a:stretch/>
        </p:blipFill>
        <p:spPr>
          <a:xfrm>
            <a:off x="1547640" y="260280"/>
            <a:ext cx="655956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>
            <a:lum bright="70000" contrast="-70000"/>
            <a:alphaModFix amt="50000"/>
          </a:blip>
          <a:stretch/>
        </p:blipFill>
        <p:spPr>
          <a:xfrm>
            <a:off x="533520" y="0"/>
            <a:ext cx="861048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57200" y="6095880"/>
            <a:ext cx="1143000" cy="4780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33520" y="533520"/>
            <a:ext cx="8076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rcRect l="0" t="0" r="0" b="3924"/>
          <a:stretch/>
        </p:blipFill>
        <p:spPr>
          <a:xfrm>
            <a:off x="1908000" y="0"/>
            <a:ext cx="687708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>
            <a:lum bright="70000" contrast="-70000"/>
            <a:alphaModFix amt="50000"/>
          </a:blip>
          <a:stretch/>
        </p:blipFill>
        <p:spPr>
          <a:xfrm>
            <a:off x="533520" y="0"/>
            <a:ext cx="861048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57200" y="6095880"/>
            <a:ext cx="1143000" cy="4780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80880" y="533520"/>
            <a:ext cx="819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755640" y="692280"/>
            <a:ext cx="748836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16:48:01Z</dcterms:created>
  <dc:creator>eve9672</dc:creator>
  <dc:description/>
  <dc:language>en-US</dc:language>
  <cp:lastModifiedBy>hzv0101</cp:lastModifiedBy>
  <dcterms:modified xsi:type="dcterms:W3CDTF">2014-11-05T11:24:48Z</dcterms:modified>
  <cp:revision>92</cp:revision>
  <dc:subject/>
  <dc:title>Presentazione di PowerPoint</dc:title>
</cp:coreProperties>
</file>