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1147-153B-4ACF-AD79-72D08936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595-E1E4-4CC9-A824-4FF4A6B6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3D47-675F-46DF-9021-42EEDD28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19EF-BF18-4146-A9CD-3F901580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DEC8-3507-4026-957D-E7B8EE80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F948-E39E-45DC-81AB-4C3DE641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6297-33CB-4B11-8642-29878338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054F-B7A1-45CA-9CCB-CC747BD7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79C6-C174-4A24-925B-05CCA46E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78E3-9D59-4F71-BEF3-E5B84DFF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DEB0-9D41-46E8-916E-71C1492E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2B8D-B5C4-4DDA-92CA-B7388A46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FB0D-6885-4CF0-909A-5FF42A5F9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  <a:alphaModFix amt="50000"/>
          </a:blip>
          <a:stretch/>
        </p:blipFill>
        <p:spPr>
          <a:xfrm>
            <a:off x="380880" y="0"/>
            <a:ext cx="8763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6095880"/>
            <a:ext cx="1143000" cy="478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0880" y="914400"/>
            <a:ext cx="8763120" cy="29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51055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6 novembre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549360"/>
            <a:ext cx="769644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Verdana"/>
              </a:rPr>
              <a:t>Il contesto socio economico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Verdana"/>
              </a:rPr>
              <a:t>la realtà del territo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Banche dati Infocamere, elaborazione dati CCIAA Venez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ALBERTO CAPUZ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IRET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Venezi@opportunità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Azienda Speciale Camera di Commercio Venez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4B82-A3E7-4A52-825C-48A43F179B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>
            <a:lum bright="70000" contrast="-70000"/>
            <a:alphaModFix amt="50000"/>
          </a:blip>
          <a:stretch/>
        </p:blipFill>
        <p:spPr>
          <a:xfrm>
            <a:off x="533520" y="0"/>
            <a:ext cx="861048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143000" cy="478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762120"/>
            <a:ext cx="80010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71640" y="-969840"/>
          <a:ext cx="7200720" cy="8797680"/>
        </p:xfrm>
        <a:graphic>
          <a:graphicData uri="http://schemas.openxmlformats.org/drawingml/2006/table">
            <a:tbl>
              <a:tblPr/>
              <a:tblGrid>
                <a:gridCol w="1726920"/>
                <a:gridCol w="863640"/>
                <a:gridCol w="787320"/>
                <a:gridCol w="774720"/>
                <a:gridCol w="863640"/>
                <a:gridCol w="787320"/>
                <a:gridCol w="78732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981000" y="-960480"/>
          <a:ext cx="1717920" cy="517680"/>
        </p:xfrm>
        <a:graphic>
          <a:graphicData uri="http://schemas.openxmlformats.org/drawingml/2006/table">
            <a:tbl>
              <a:tblPr/>
              <a:tblGrid>
                <a:gridCol w="17179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77040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>
            <a:lum bright="70000" contrast="-70000"/>
            <a:alphaModFix amt="50000"/>
          </a:blip>
          <a:stretch/>
        </p:blipFill>
        <p:spPr>
          <a:xfrm>
            <a:off x="533520" y="0"/>
            <a:ext cx="861048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143000" cy="478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71600" y="1285920"/>
            <a:ext cx="6629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11280" y="620640"/>
          <a:ext cx="7772400" cy="5256360"/>
        </p:xfrm>
        <a:graphic>
          <a:graphicData uri="http://schemas.openxmlformats.org/drawingml/2006/table">
            <a:tbl>
              <a:tblPr/>
              <a:tblGrid>
                <a:gridCol w="5913360"/>
                <a:gridCol w="1859040"/>
              </a:tblGrid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 Unicode MS"/>
                          <a:ea typeface="Tahoma"/>
                        </a:rPr>
                        <a:t>Imprese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(II trimestre 201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Valori assoluti e percentuali di composi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N. impre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9.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7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In % sul Ve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In % sull'It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N. imprese ogni 100 abita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% di imprese artigia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8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% di imprese femminil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9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% di imprese giovani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% di imprese strani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bright="70000" contrast="-70000"/>
            <a:alphaModFix amt="50000"/>
          </a:blip>
          <a:stretch/>
        </p:blipFill>
        <p:spPr>
          <a:xfrm>
            <a:off x="533520" y="0"/>
            <a:ext cx="861048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143000" cy="478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4360" y="549360"/>
            <a:ext cx="784836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SISTEMA INFORMATIVO EXCELSIOR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LE PREVISIONI OCCUPAZIONALI E I FABBISOGNI PROFESSIONALI PER IL 2014: UNO STRUMENTO IMPORTANT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L’indagine Excelsior è considerata una delle piu’ ampie indagini previste   dal   sistema   statistico   nazionale  e  rappresenta  lo strumento  informativo  piu’ completo e approfondito relativo ai fabbisogni professionali e formativi delle impre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E’ un’indagine annuale,  la presente edizione chiusa il 19 agosto 2014  ha  riguardato  a  livello nazionale, un campione di 97.000 imprese,  rappresentative  dell’ universo  delle  imprese  private, dell’industria e  dei servizi  con almeno un dipendente in  media nel 201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aggiori informazioni al link: http://excelsior.unioncamere.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>
            <a:lum bright="70000" contrast="-70000"/>
            <a:alphaModFix amt="50000"/>
          </a:blip>
          <a:stretch/>
        </p:blipFill>
        <p:spPr>
          <a:xfrm>
            <a:off x="250920" y="243000"/>
            <a:ext cx="8610480" cy="6615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143000" cy="478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920" y="380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rcRect l="0" t="0" r="0" b="2880"/>
          <a:stretch/>
        </p:blipFill>
        <p:spPr>
          <a:xfrm>
            <a:off x="1547640" y="260280"/>
            <a:ext cx="65595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>
            <a:lum bright="70000" contrast="-70000"/>
            <a:alphaModFix amt="50000"/>
          </a:blip>
          <a:stretch/>
        </p:blipFill>
        <p:spPr>
          <a:xfrm>
            <a:off x="533520" y="0"/>
            <a:ext cx="861048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143000" cy="478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3520" y="533520"/>
            <a:ext cx="8076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rcRect l="0" t="0" r="0" b="3924"/>
          <a:stretch/>
        </p:blipFill>
        <p:spPr>
          <a:xfrm>
            <a:off x="1908000" y="0"/>
            <a:ext cx="6877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>
            <a:lum bright="70000" contrast="-70000"/>
            <a:alphaModFix amt="50000"/>
          </a:blip>
          <a:stretch/>
        </p:blipFill>
        <p:spPr>
          <a:xfrm>
            <a:off x="533520" y="0"/>
            <a:ext cx="861048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143000" cy="478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0880" y="533520"/>
            <a:ext cx="819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55640" y="692280"/>
            <a:ext cx="748836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6:48:01Z</dcterms:created>
  <dc:creator>eve9672</dc:creator>
  <dc:description/>
  <dc:language>en-US</dc:language>
  <cp:lastModifiedBy>hzv0101</cp:lastModifiedBy>
  <dcterms:modified xsi:type="dcterms:W3CDTF">2014-11-05T11:24:48Z</dcterms:modified>
  <cp:revision>92</cp:revision>
  <dc:subject/>
  <dc:title>Presentazione di PowerPoint</dc:title>
</cp:coreProperties>
</file>