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5A64-1666-46F9-B578-F4F3B4A9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1F1F-4C1A-493A-8F38-1C41AA49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D25-AD8F-4641-B67C-B1992A37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3A2C-93C1-43EF-A7E6-682DCFC0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6F4B-6904-4AFA-9EE0-E41E8D7F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0F1-B022-4ED4-9D7F-9EA3010B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E568-6B90-4836-9AC7-ED586044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1970-ED53-4B83-B212-3844E59A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98E3-5EF8-48F2-8B52-A722284D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6503-0FA0-4C7F-AF9F-B59D5002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F937-16DF-4C1C-A02D-1326F49A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BB92-0743-4FB6-A8B1-4918716D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98CD-1BD1-4EE8-A3A3-620F25FFA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914400"/>
            <a:ext cx="8763120" cy="29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1055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6 novembre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549360"/>
            <a:ext cx="769644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Verdana"/>
              </a:rPr>
              <a:t>Il contesto socio economico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Verdana"/>
              </a:rPr>
              <a:t>la realtà del territo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Banche dati Infocamere, elaborazione dati CCIAA Venez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ALBERTO CAPUZ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IRET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Venezi@opportunità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Azienda Speciale Camera di Commercio Venez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152-F9D3-4A73-BB6D-10C6C5E580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762120"/>
            <a:ext cx="8001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71640" y="-969840"/>
          <a:ext cx="7200720" cy="8797680"/>
        </p:xfrm>
        <a:graphic>
          <a:graphicData uri="http://schemas.openxmlformats.org/drawingml/2006/table">
            <a:tbl>
              <a:tblPr/>
              <a:tblGrid>
                <a:gridCol w="1726920"/>
                <a:gridCol w="863640"/>
                <a:gridCol w="787320"/>
                <a:gridCol w="774720"/>
                <a:gridCol w="863640"/>
                <a:gridCol w="787320"/>
                <a:gridCol w="78732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981000" y="-960480"/>
          <a:ext cx="1717920" cy="517680"/>
        </p:xfrm>
        <a:graphic>
          <a:graphicData uri="http://schemas.openxmlformats.org/drawingml/2006/table">
            <a:tbl>
              <a:tblPr/>
              <a:tblGrid>
                <a:gridCol w="17179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7704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71600" y="1285920"/>
            <a:ext cx="6629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11280" y="620640"/>
          <a:ext cx="7772400" cy="5256360"/>
        </p:xfrm>
        <a:graphic>
          <a:graphicData uri="http://schemas.openxmlformats.org/drawingml/2006/table">
            <a:tbl>
              <a:tblPr/>
              <a:tblGrid>
                <a:gridCol w="5913360"/>
                <a:gridCol w="185904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 Unicode MS"/>
                          <a:ea typeface="Tahoma"/>
                        </a:rPr>
                        <a:t>Imprese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(II trimestre 201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Valori assoluti e percentuali di composi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N. impr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9.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7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In % sul Ve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In % sull'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N. imprese ogni 100 abita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% di imprese artigia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8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% di imprese femminil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% di imprese giovani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ahoma"/>
                        </a:rPr>
                        <a:t>% di imprese strani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4360" y="549360"/>
            <a:ext cx="784836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SISTEMA INFORMATIVO EXCELSIOR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LE PREVISIONI OCCUPAZIONALI E I FABBISOGNI PROFESSIONALI PER IL 2014: UNO STRUMENTO IMPORTANT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L’indagine Excelsior è considerata una delle piu’ ampie indagini previste   dal   sistema   statistico   nazionale  e  rappresenta  lo strumento  informativo  piu’ completo e approfondito relativo ai fabbisogni professionali e formativi delle impre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E’ un’indagine annuale,  la presente edizione chiusa il 19 agosto 2014  ha  riguardato  a  livello nazionale, un campione di 97.000 imprese,  rappresentative  dell’ universo  delle  imprese  private, dell’industria e  dei servizi  con almeno un dipendente in  media nel 201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aggiori informazioni al link: http://excelsior.unioncamere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250920" y="243000"/>
            <a:ext cx="8610480" cy="6615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rcRect l="0" t="0" r="0" b="2880"/>
          <a:stretch/>
        </p:blipFill>
        <p:spPr>
          <a:xfrm>
            <a:off x="1547640" y="260280"/>
            <a:ext cx="65595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3520" y="533520"/>
            <a:ext cx="8076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rcRect l="0" t="0" r="0" b="3924"/>
          <a:stretch/>
        </p:blipFill>
        <p:spPr>
          <a:xfrm>
            <a:off x="1908000" y="0"/>
            <a:ext cx="6877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lum bright="70000" contrast="-70000"/>
            <a:alphaModFix amt="50000"/>
          </a:blip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143000" cy="478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0880" y="533520"/>
            <a:ext cx="819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55640" y="692280"/>
            <a:ext cx="74883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6:48:01Z</dcterms:created>
  <dc:creator>eve9672</dc:creator>
  <dc:description/>
  <dc:language>en-US</dc:language>
  <cp:lastModifiedBy>hzv0101</cp:lastModifiedBy>
  <dcterms:modified xsi:type="dcterms:W3CDTF">2014-11-05T11:24:48Z</dcterms:modified>
  <cp:revision>92</cp:revision>
  <dc:subject/>
  <dc:title>Presentazione di PowerPoint</dc:title>
</cp:coreProperties>
</file>