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4E3-C154-4379-A400-80710CFE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CAD-CD78-4C57-A997-D3A38CF3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774-B99F-4C16-9ADA-13FD19F0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AFB-0FC4-4399-A3B4-ED1E54C3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82F-279B-488E-B5CD-3D767621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0A5-E365-4F6D-88F4-A3F24AA6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0AE-C4F3-47B2-A5BE-8781B53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F3C-B61D-4F99-B3EF-E3426803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EF1-28BA-43A1-A6F5-591C618F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CD2-1963-4D7B-B887-EB6D240E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3FD-C662-4D27-A947-AF3D12A4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94A-FE60-4A4A-9F1C-F5819BF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5CC-04C8-463D-9AD4-B6E6BAB24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914400"/>
            <a:ext cx="876312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1055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6 novembre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7696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Il contesto socio economic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la realtà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Banche dati Infocamere, elaborazione dati CCIAA Vene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ALBERTO CAPU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R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nezi@opportunità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zienda Speciale Camera di Commercio Venez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B42-3C13-4096-BA22-79DF028169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762120"/>
            <a:ext cx="8001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71640" y="-969840"/>
          <a:ext cx="7200720" cy="8797680"/>
        </p:xfrm>
        <a:graphic>
          <a:graphicData uri="http://schemas.openxmlformats.org/drawingml/2006/table">
            <a:tbl>
              <a:tblPr/>
              <a:tblGrid>
                <a:gridCol w="1726920"/>
                <a:gridCol w="863640"/>
                <a:gridCol w="787320"/>
                <a:gridCol w="774720"/>
                <a:gridCol w="863640"/>
                <a:gridCol w="787320"/>
                <a:gridCol w="78732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81000" y="-960480"/>
          <a:ext cx="1717920" cy="517680"/>
        </p:xfrm>
        <a:graphic>
          <a:graphicData uri="http://schemas.openxmlformats.org/drawingml/2006/table">
            <a:tbl>
              <a:tblPr/>
              <a:tblGrid>
                <a:gridCol w="17179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70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285920"/>
            <a:ext cx="6629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1280" y="620640"/>
          <a:ext cx="7772400" cy="5256360"/>
        </p:xfrm>
        <a:graphic>
          <a:graphicData uri="http://schemas.openxmlformats.org/drawingml/2006/table">
            <a:tbl>
              <a:tblPr/>
              <a:tblGrid>
                <a:gridCol w="5913360"/>
                <a:gridCol w="185904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 Unicode MS"/>
                          <a:ea typeface="Tahoma"/>
                        </a:rPr>
                        <a:t>Imprese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(II trimestre 20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Valori assoluti e percentuali di composi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9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 Ve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l'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 ogni 100 abit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artigi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femmini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giovan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stran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549360"/>
            <a:ext cx="78483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SISTEMA INFORMATIVO EXCELSI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E PREVISIONI OCCUPAZIONALI E I FABBISOGNI PROFESSIONALI PER IL 2014: UNO STRUMENTO IMPORTANT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’indagine Excelsior è considerata una delle piu’ ampie indagini previste   dal   sistema   statistico   nazionale  e  rappresenta  lo strumento  informativo  piu’ completo e approfondito relativo ai fabbisogni professionali e formativi delle impr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E’ un’indagine annuale,  la presente edizione chiusa il 19 agosto 2014  ha  riguardato  a  livello nazionale, un campione di 97.000 imprese,  rappresentative  dell’ universo  delle  imprese  private, dell’industria e  dei servizi  con almeno un dipendente in  media nel 20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ggiori informazioni al link: http://excelsior.unioncamere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250920" y="243000"/>
            <a:ext cx="8610480" cy="661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0" t="0" r="0" b="2880"/>
          <a:stretch/>
        </p:blipFill>
        <p:spPr>
          <a:xfrm>
            <a:off x="1547640" y="260280"/>
            <a:ext cx="6559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533520"/>
            <a:ext cx="807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0" t="0" r="0" b="3924"/>
          <a:stretch/>
        </p:blipFill>
        <p:spPr>
          <a:xfrm>
            <a:off x="1908000" y="0"/>
            <a:ext cx="6877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33520"/>
            <a:ext cx="819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692280"/>
            <a:ext cx="74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48:01Z</dcterms:created>
  <dc:creator>eve9672</dc:creator>
  <dc:description/>
  <dc:language>en-US</dc:language>
  <cp:lastModifiedBy>hzv0101</cp:lastModifiedBy>
  <dcterms:modified xsi:type="dcterms:W3CDTF">2014-11-05T11:24:48Z</dcterms:modified>
  <cp:revision>92</cp:revision>
  <dc:subject/>
  <dc:title>Presentazione di PowerPoint</dc:title>
</cp:coreProperties>
</file>